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2AE-3FF2-4A47-904C-EB8CF604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B2D4-788C-4A5E-9623-63E977B0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F052-8480-43ED-8712-2E79B091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198-18D3-45EB-B11D-9CF05390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4CB-66E0-437B-8C99-BD2B7A22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8CC6-F0D7-468B-89EA-7C99D3F5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1A3-BFC7-47A7-AA06-9AD23856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622-8659-4A03-BAE2-A1DA2673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D7B5-4B9A-410B-8676-EA074419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9A0-D366-4D16-AF5D-A1216198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4B1-FCCE-4DC6-A2C2-15EB0C72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239-AB9B-4967-8BB4-19CCF2CA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A6BB-060C-4249-A8A5-0BC68265BA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OON  PORTLAND                        TROON  PORTLAND               TROON  PORTLAND  100TH           WEST  NETHERTON                     WEST  NETHERTON                   WEST  NETHER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4305240" y="-79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213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NETHERTON  100TH              WEST  NETHERTON  125TH             KILMARNOCK  EX  PRES.                EX  PRESIDENTS                   EX  PRESIDENTS  60TH    AYR  &amp;  PRESTWICK  EX  PRESIDENTS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Troon Portland 100th 2"/>
          <p:cNvPicPr/>
          <p:nvPr/>
        </p:nvPicPr>
        <p:blipFill>
          <a:blip r:embed="rId1"/>
          <a:stretch/>
        </p:blipFill>
        <p:spPr>
          <a:xfrm>
            <a:off x="3513240" y="0"/>
            <a:ext cx="1116000" cy="141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4" descr="West Netherton 1"/>
          <p:cNvPicPr/>
          <p:nvPr/>
        </p:nvPicPr>
        <p:blipFill>
          <a:blip r:embed="rId2"/>
          <a:stretch/>
        </p:blipFill>
        <p:spPr>
          <a:xfrm>
            <a:off x="4952880" y="26028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5" descr="West Netherton 2"/>
          <p:cNvPicPr/>
          <p:nvPr/>
        </p:nvPicPr>
        <p:blipFill>
          <a:blip r:embed="rId3"/>
          <a:stretch/>
        </p:blipFill>
        <p:spPr>
          <a:xfrm>
            <a:off x="6537240" y="26028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6" descr="West Netherton 3"/>
          <p:cNvPicPr/>
          <p:nvPr/>
        </p:nvPicPr>
        <p:blipFill>
          <a:blip r:embed="rId4"/>
          <a:stretch/>
        </p:blipFill>
        <p:spPr>
          <a:xfrm>
            <a:off x="8193240" y="404640"/>
            <a:ext cx="877680" cy="102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7" descr="West Netherton 100th"/>
          <p:cNvPicPr/>
          <p:nvPr/>
        </p:nvPicPr>
        <p:blipFill>
          <a:blip r:embed="rId5"/>
          <a:stretch/>
        </p:blipFill>
        <p:spPr>
          <a:xfrm>
            <a:off x="200160" y="1773360"/>
            <a:ext cx="1189080" cy="1463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8" descr="West Netherton 125th"/>
          <p:cNvPicPr/>
          <p:nvPr/>
        </p:nvPicPr>
        <p:blipFill>
          <a:blip r:embed="rId6"/>
          <a:stretch/>
        </p:blipFill>
        <p:spPr>
          <a:xfrm>
            <a:off x="2000160" y="2133720"/>
            <a:ext cx="91440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9" descr="Kilmarnock Ex Pres"/>
          <p:cNvPicPr/>
          <p:nvPr/>
        </p:nvPicPr>
        <p:blipFill>
          <a:blip r:embed="rId7"/>
          <a:stretch/>
        </p:blipFill>
        <p:spPr>
          <a:xfrm>
            <a:off x="3584520" y="213372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Kilmarnock Ex Pres"/>
          <p:cNvPicPr/>
          <p:nvPr/>
        </p:nvPicPr>
        <p:blipFill>
          <a:blip r:embed="rId8"/>
          <a:stretch/>
        </p:blipFill>
        <p:spPr>
          <a:xfrm>
            <a:off x="5097600" y="220500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Ayr &amp; Prestwick Ex Pres"/>
          <p:cNvPicPr/>
          <p:nvPr/>
        </p:nvPicPr>
        <p:blipFill>
          <a:blip r:embed="rId9"/>
          <a:stretch/>
        </p:blipFill>
        <p:spPr>
          <a:xfrm>
            <a:off x="8121600" y="2060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4" descr="Kilmarnock Ex Pres"/>
          <p:cNvPicPr/>
          <p:nvPr/>
        </p:nvPicPr>
        <p:blipFill>
          <a:blip r:embed="rId10"/>
          <a:stretch/>
        </p:blipFill>
        <p:spPr>
          <a:xfrm>
            <a:off x="6608880" y="1916280"/>
            <a:ext cx="1147680" cy="128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Troon Portland 1.JPG"/>
          <p:cNvPicPr/>
          <p:nvPr/>
        </p:nvPicPr>
        <p:blipFill>
          <a:blip r:embed="rId11"/>
          <a:stretch/>
        </p:blipFill>
        <p:spPr>
          <a:xfrm>
            <a:off x="1857240" y="26028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Troon Portland 3.JPG"/>
          <p:cNvPicPr/>
          <p:nvPr/>
        </p:nvPicPr>
        <p:blipFill>
          <a:blip r:embed="rId12"/>
          <a:stretch/>
        </p:blipFill>
        <p:spPr>
          <a:xfrm>
            <a:off x="272880" y="404640"/>
            <a:ext cx="10242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3:01:16Z</dcterms:created>
  <dc:creator>HP authorized customer</dc:creator>
  <dc:description/>
  <dc:language>en-US</dc:language>
  <cp:lastModifiedBy>John</cp:lastModifiedBy>
  <dcterms:modified xsi:type="dcterms:W3CDTF">2011-11-20T15:25:47Z</dcterms:modified>
  <cp:revision>16</cp:revision>
  <dc:subject/>
  <dc:title>Slide 1</dc:title>
</cp:coreProperties>
</file>